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31BC-9E63-4476-A5A0-982205A8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BD2-0A23-4A80-A89F-570D7760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3961-9579-4F0D-99FA-86C09F10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0C1-A665-4996-B6E4-F2AAECDA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CCBD-006A-47D4-81EF-D7A65C44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041-9EAB-4941-AF48-A5D86116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7166-1D10-4C49-8F30-DCADBACE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27E8-15E5-47ED-B15C-37B2B7C2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440-6AFB-4D2A-A842-EC029CA9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4A92-D315-4F28-9430-3DDEC3AB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96E-735C-41B8-B1E6-62B9C278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3463-0733-4D99-B29C-25B5DD79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F96F-A09D-4036-9DB5-6B309A543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053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8:00:31Z</dcterms:created>
  <dc:creator>Information Technology</dc:creator>
  <dc:description/>
  <dc:language>en-US</dc:language>
  <cp:lastModifiedBy>Information Technology</cp:lastModifiedBy>
  <dcterms:modified xsi:type="dcterms:W3CDTF">2011-01-06T18:00:54Z</dcterms:modified>
  <cp:revision>1</cp:revision>
  <dc:subject/>
  <dc:title>Slide 1</dc:title>
</cp:coreProperties>
</file>